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C9D1-B77B-449C-86C7-61DF25221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C131-D017-4041-B9D8-717F0EB28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E083-9967-4C09-9C61-0B952EAC5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69CF-7200-4607-A188-7D46FFC87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0C6A-2881-4289-A23F-2FD3B84D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A3AA-432A-4A34-8FD6-243CB3126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5C7C-5C70-441C-AC78-50F1E7BE2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1910-1708-40A8-8E36-847EBF79A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46B3-1BAC-4926-9092-CA70DE3E4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D595-B660-4815-8FC3-C90AC9FF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6C8A-222F-461F-BF83-693A4DF9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5672-9E45-412B-A3A4-F7097DB2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62920-D8C1-401B-B48F-6A5B10162EC5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19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ιώνα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ίχα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ίνε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υρώπ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ολλέ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λλαγές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ιστήμης,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οινωνία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δηγού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αθμιαία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νατροπ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θιερωμέν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ξιών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Τίτλος 1" descr=""/>
          <p:cNvPicPr/>
          <p:nvPr/>
        </p:nvPicPr>
        <p:blipFill>
          <a:blip r:embed="rId1"/>
          <a:stretch/>
        </p:blipFill>
        <p:spPr>
          <a:xfrm>
            <a:off x="469800" y="8568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νευμ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αστ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ινήματα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Διαφωτισμός,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αλλ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Ρομαντισμός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ιομηχαν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Ρωσ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Η παραδοσιακ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οίη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νταποκρι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την παλι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άξ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ραγμάτων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τ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αραπάν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λλαγέ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ενεργούν σ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ρόπο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ποί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άνθρωπο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ισθα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χέ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κόσμ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ηρεάζου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δηλαδή την ευαισθησία το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 να εκφράσει τη «διάλυση» ευαισθησίας του ανθρώπου, η ποίηση έπρεπε να βρει καινούριους εκφραστικούς τρόπου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 όνομα: άγνωστο, παρουσιαζόταν πρώτη φορά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ναι διφορούμενος: μπορεί να είναι ένας όρος της στιχουργικής,αλλὰ μπορεί και να σημαίνει μια βαθύτερη αλλαγή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χε ασφαλώς το δεύτερο νόημα. Με τη λιγοσέλιδη ποιητικὴ συλλογή ερχόταν στη νέα ελληνική ποίηση μία αναπάντεχη αλλαγή, μια πραγματική «στροφή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Τίτλος 1" descr=""/>
          <p:cNvPicPr/>
          <p:nvPr/>
        </p:nvPicPr>
        <p:blipFill>
          <a:blip r:embed="rId1"/>
          <a:stretch/>
        </p:blipFill>
        <p:spPr>
          <a:xfrm>
            <a:off x="414360" y="96840"/>
            <a:ext cx="840096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09:13:27Z</dcterms:created>
  <dc:creator>ΓΙΩΡΓΟΣ   ΔΕΣΠΟΙΝΑ</dc:creator>
  <dc:description/>
  <dc:language>en-US</dc:language>
  <cp:lastModifiedBy>giorgos</cp:lastModifiedBy>
  <dcterms:modified xsi:type="dcterms:W3CDTF">2012-03-23T09:53:23Z</dcterms:modified>
  <cp:revision>11</cp:revision>
  <dc:subject/>
  <dc:title>ΗΓενιάτου’30 Aπό το19ο αιώνα, είχαν γίνει στην Ευρώπη πολλέςαλλαγές,που έχουν σχέση με την εξέλιξη της επιστήμης και τη δομή της κοινωνικής οργάνωσης και οδηγούν βαθμιαία στην ανατροπή των καθιερωμένων αξιών.</dc:title>
</cp:coreProperties>
</file>